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2774-088E-4471-AF5C-39D08008F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6731-1DDA-449F-A97D-E8B6435A1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A6EB-019F-4577-BBB3-13E4F9EFA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12AB-2C10-42D3-86B9-312DF0B34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EFFB-75E6-4189-8A10-D863F64F5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50FB-2D14-49DA-A0D6-D01A10249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005E-FC93-45EB-BF7C-F0AB664FB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B49D-EF76-4FA9-A797-E8D78B08E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8722-CA24-4761-A8D3-7E36C6EA7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AEEF-E257-4413-8B71-FC0D0502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8F2A-1E64-42ED-9858-8E72E942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0D90-76F2-4902-9665-E11DAEF9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88E0E-E61B-42BF-B93D-93B6167B34E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1079640" cy="1260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itle 1"/>
          <p:cNvSpPr/>
          <p:nvPr/>
        </p:nvSpPr>
        <p:spPr>
          <a:xfrm>
            <a:off x="0" y="71280"/>
            <a:ext cx="91440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TATC ROBO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ubtitle 2"/>
          <p:cNvSpPr/>
          <p:nvPr/>
        </p:nvSpPr>
        <p:spPr>
          <a:xfrm>
            <a:off x="0" y="85716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600" spc="-1" strike="noStrike">
                <a:solidFill>
                  <a:srgbClr val="ffffff"/>
                </a:solidFill>
                <a:latin typeface="Calibri"/>
                <a:cs typeface="Cordia New"/>
              </a:rPr>
              <a:t>วิทยาลัยเทคนิคสัตหี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2206800" y="1428840"/>
            <a:ext cx="107928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itle 1"/>
          <p:cNvSpPr/>
          <p:nvPr/>
        </p:nvSpPr>
        <p:spPr>
          <a:xfrm>
            <a:off x="407196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itle 1"/>
          <p:cNvSpPr/>
          <p:nvPr/>
        </p:nvSpPr>
        <p:spPr>
          <a:xfrm>
            <a:off x="592920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770724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itle 1"/>
          <p:cNvSpPr/>
          <p:nvPr/>
        </p:nvSpPr>
        <p:spPr>
          <a:xfrm>
            <a:off x="320760" y="3049560"/>
            <a:ext cx="4680000" cy="28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Calibri"/>
              </a:rPr>
              <a:t>รูปหุ่นยนต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5214960" y="3071880"/>
            <a:ext cx="3600360" cy="21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alibri"/>
              </a:rPr>
              <a:t>รูป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14292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เสกสรร  ศรีจันทร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6"/>
          <p:cNvSpPr/>
          <p:nvPr/>
        </p:nvSpPr>
        <p:spPr>
          <a:xfrm>
            <a:off x="750096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นิรนาม  สังข์เทีย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7"/>
          <p:cNvSpPr/>
          <p:nvPr/>
        </p:nvSpPr>
        <p:spPr>
          <a:xfrm>
            <a:off x="5715000" y="2714760"/>
            <a:ext cx="1500120" cy="641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นายธัญลักษณ์  นามวงษ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8"/>
          <p:cNvSpPr/>
          <p:nvPr/>
        </p:nvSpPr>
        <p:spPr>
          <a:xfrm>
            <a:off x="3857760" y="2714760"/>
            <a:ext cx="1500120" cy="459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ปภาวิชญ์   ศรีบริสุทธิ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9"/>
          <p:cNvSpPr/>
          <p:nvPr/>
        </p:nvSpPr>
        <p:spPr>
          <a:xfrm>
            <a:off x="200016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อภินันท์  วัลลิสุ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52440" y="1441440"/>
          <a:ext cx="1079640" cy="125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2440" y="1441440"/>
                    <a:ext cx="107964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216400" y="3087720"/>
          <a:ext cx="3594240" cy="215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16400" y="3087720"/>
                    <a:ext cx="359424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2195640" y="1413000"/>
            <a:ext cx="1114200" cy="1295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4067280" y="1413000"/>
            <a:ext cx="1109520" cy="1295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7686720" y="1413000"/>
            <a:ext cx="1114560" cy="1295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9"/>
          <a:stretch/>
        </p:blipFill>
        <p:spPr>
          <a:xfrm>
            <a:off x="5911920" y="1413000"/>
            <a:ext cx="1111320" cy="1295280"/>
          </a:xfrm>
          <a:prstGeom prst="rect">
            <a:avLst/>
          </a:prstGeom>
          <a:ln w="0">
            <a:noFill/>
          </a:ln>
        </p:spPr>
      </p:pic>
      <p:pic>
        <p:nvPicPr>
          <p:cNvPr id="63" name="รูปภาพ 7" descr="Assem1.JPG"/>
          <p:cNvPicPr/>
          <p:nvPr/>
        </p:nvPicPr>
        <p:blipFill>
          <a:blip r:embed="rId10"/>
          <a:srcRect l="0" t="0" r="0" b="-80"/>
          <a:stretch/>
        </p:blipFill>
        <p:spPr>
          <a:xfrm>
            <a:off x="380880" y="3059280"/>
            <a:ext cx="46087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2:38:21Z</dcterms:created>
  <dc:creator>pymta</dc:creator>
  <dc:description/>
  <dc:language>en-US</dc:language>
  <cp:lastModifiedBy>seksan</cp:lastModifiedBy>
  <dcterms:modified xsi:type="dcterms:W3CDTF">2009-10-02T07:43:36Z</dcterms:modified>
  <cp:revision>38</cp:revision>
  <dc:subject/>
  <dc:title>Slide 1</dc:title>
</cp:coreProperties>
</file>